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C9C-CA81-41E7-A644-E083F12F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4511-839A-49F5-B813-CC4EA235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382A2-F88E-4F7F-87DB-A645B610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3B310-A8AC-43CA-867C-32B7BF23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D4924-7936-46D6-890A-AEAC343A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436AC-2BC0-484D-8734-CDA8B8F2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A1455-C806-485C-B378-078485F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94545-FCC8-4AF0-BF58-B1619999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05C65-81BE-4009-9511-294FD9B3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39D72-C054-4EC3-AA84-4FEC34A7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8138F-2A60-4FE3-947E-77A181CF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CD4-106D-4934-B4BB-0F5D46D0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052-D81C-42F6-ABF6-2FDB5608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647A-77D3-4106-B34C-3B0FFBC7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DC22-0066-4163-A369-62887E60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F832-A85A-4067-B2C3-9F736EAA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013C-35B5-43CE-823F-7EF4290B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0FA9-E0AF-4704-B0A1-938387CA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44E3-122C-4F02-ADAA-C7BFBABC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B34B-BEB0-4C43-A781-B7880FD2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FCA-8187-491F-A17C-6D9C413A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7BF5-4E59-4134-8D3F-70B134E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131F-632C-4373-BCC1-078B954A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7601-07B0-40F6-81FF-9FB2A255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6ABC-0ED5-4173-BB58-3453085D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F823-E5C9-4E99-8908-040115BF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4016E-CAB8-4DB5-8DCB-532C680A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85EF2-2057-44D7-A5B1-AA9F0C65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81FE-97D2-4955-B540-4EFEB5D4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30FDB-FF2C-4D36-AFBC-67A01072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63C2D-A994-4450-8368-65116235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AC3-FB43-4960-9274-2122A517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F3637-AAEE-4A96-AB2B-A31F63C9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7F3B-3AEA-4FF6-8675-A30A8827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3B634-9C28-40CE-B402-B37340B7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FB05-24C7-4242-8A1C-BC6832D5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3735-8EE9-4A2E-84E3-F7699613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92C85-EBC0-40DC-9587-32E0ACAF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950B2-AA3C-440F-A301-BAF45DB1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744A9-38FE-4F7C-91C8-EB3FFCFB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26D7C-E973-414B-AAC7-AFC5F4B1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0264-3F1E-4B07-86F8-90E032A8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125-B3BC-4DA9-B882-666B70E6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B9D5-B992-4F56-9624-B814C1A3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98950-A25F-4FEC-AACE-F7343278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833D4-98A9-4245-8753-561F5356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E4E3-C8AA-49C9-9051-5927B0B2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C802-60C1-47EA-93B0-BCE0D1A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E57A8-EBDB-4D96-A6C2-7D1D898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7D3A6-2F0D-4796-8AF0-7D44E102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13D7B-8FD0-4757-9EDF-56EB9A43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C109-DD24-4FC2-B878-89C04DAF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63F9F-3E91-46BD-BEA3-593AD0B1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107B-C2D3-4891-8913-62C5EBE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3B20-DF19-46EE-8FD7-E8FD451E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F4C89-D00A-40DF-8BCE-09382E58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2EB8E-5F8F-4D37-B393-03F607D2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FFF81-E9E4-42E4-A27D-780C4109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17D3F-3572-4047-9E0D-001E8FFD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738BD-EC27-4DA4-A1A7-3023021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12165-876A-425F-A69D-D121FE8E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795D7-34FC-479A-8FD2-BD914F1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40B4-0109-4376-80A8-29378E4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61012-1C96-4DEF-88FF-F048CD24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3E9-DAD6-458F-B801-C28E4751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C9329-6C43-4059-8660-4C199901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8961-6B46-4A1B-A8D0-1F5A82A8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84CC0-39BE-4C3B-87A9-DA04F775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EBE4A-8334-4A63-B74C-23B47775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F29E1-006C-4A5B-9870-52D19794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68D43-4630-4A61-AE16-F07A962F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09E97-17B2-4076-98E7-9577BA22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F7E5A-43B5-4906-9104-16894E04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E1F12-5390-4D4A-AEE6-7FE564E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6CFF5-5588-4D36-AE3B-A5377ABA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5E3-73BF-40E2-8D5F-136D1870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34656-05A5-4A21-9A0B-974BA02F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2FE7E-156D-435D-8298-517330AB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EE531-3C40-49DF-ADA2-DD64A2264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F403C-21CB-4A0F-917F-CBBF945D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29260-D5A5-47A1-9421-87224C0A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CF3CD-06DA-483D-8974-365B3A5C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BAEC4-593E-4C65-BBA3-45B12AB8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AB014-2C4B-4A38-8149-04614C2D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9E0B-3A2D-4246-874B-06E9F7BF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86D06-72F2-45C2-9568-061CDD66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881-601A-4924-AD3A-29D6DB1D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30A54-9CF1-4571-9DFF-8DC2F1B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1B7AC-0E10-44C1-B6C9-5957CADE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DD25-F878-4654-87F4-5F526DB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F7BF9-0364-464A-B6F1-759BF405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81C80-F0A9-4C9A-B6A7-C780CAA1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30D81-CDCA-4D7F-BB08-9050972E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9F162-F4E6-4526-8892-9E09D868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326EC-D698-41E6-85E7-5AD3CF6B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3454D-12C0-4026-B3D0-D961CD01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56579-8087-4D75-9494-5DD57190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3C6-62C1-4071-8495-69AAFA8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D861F-99FE-4CCA-B45A-1B56EC2E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B9D4DE-3302-47B6-9FF2-916958B9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E124B-D91E-41F1-941C-A454A31B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B6B17-5BA6-4F26-9985-1BD6BCD0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78943-9F36-40D1-83D8-B87E6383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F48BB-A9D6-4FE7-9B6E-76205520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5F39A-511F-4FF0-869A-E0F547AC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C7915-2858-44FC-9C18-B2B14347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7687D-81F9-43C1-B102-D078EA3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B7E90-9EE1-47DC-86EF-5F920B2A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3748-46E5-47B1-9174-C26E0BCDC6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Straight Connector 14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74B7-6967-4E59-BD68-02976EF64AF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DBA3-7A1E-47F3-8254-B5F2CEEB76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Straight Connector 14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9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325C-D763-4ED9-815A-D3603FC63E8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Straight Connector 14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93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73A8-51DA-4152-A27E-D134E480B6B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3396-5333-4D5E-B9FF-FEC7C98871E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Straight Connector 14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8" name="Straight Connector 14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CDCB-C4C5-48B0-88E6-12E524B1D9A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4DCA-77CE-42D5-8458-DE5FF3442C5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9CF3-70F6-49F1-AAE1-148524968B4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1066680" y="6245280"/>
            <a:ext cx="670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38e27"/>
                </a:solidFill>
                <a:latin typeface="Tahoma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D63C-3ED8-4F4E-B2C2-209D2BCA4BE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PTER 10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ATA QUALITY AND INTEGRATION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990720" y="33523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Modern Database Managemen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11</a:t>
            </a:r>
            <a:r>
              <a:rPr b="1" i="1" lang="en-US" sz="2200" spc="-1" strike="noStrike" baseline="30000">
                <a:solidFill>
                  <a:srgbClr val="0070c0"/>
                </a:solidFill>
                <a:latin typeface="Franklin Gothic Book"/>
                <a:ea typeface="Times New Roman"/>
              </a:rPr>
              <a:t>th</a:t>
            </a:r>
            <a:r>
              <a:rPr b="1" i="1" lang="en-US" sz="2200" spc="-1" strike="noStrike">
                <a:solidFill>
                  <a:srgbClr val="0070c0"/>
                </a:solidFill>
                <a:latin typeface="Franklin Gothic Book"/>
                <a:ea typeface="Times New Roman"/>
              </a:rPr>
              <a:t> Edition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Jeffrey A. Hoffer,  V. Ramesh,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Franklin Gothic Book"/>
                <a:ea typeface="Times New Roman"/>
              </a:rPr>
              <a:t>Heikki Topi</a:t>
            </a:r>
            <a:r>
              <a:rPr b="0" lang="en-US" sz="22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QUALITY AUDI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tatistically profile all data fil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ocument the set of values for all field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nalyze data patterns (distribution, outliers, frequencies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Verify whether controls and business rules are enforced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Use specialized data profiling tool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B56C-32E4-4F6A-B385-20B8058A737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STEWARDSHIP PROGRAM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560" y="13716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ole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versight of data stewardship progra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age data subject are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versee data definit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versee production of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1440" indent="-24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versee use of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91600" indent="-2916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port to: business unit vs. IT organization?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DFC4-3967-46EB-B451-96FF1A636FB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MPROVING DATA CAPTURE PROCESS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Automate data entry as much as possible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Manual data entry should be selected from preset option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Use trained operators when possible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Follow good user interface design principle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Immediate data validation for entered data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6EDC-B8BF-4948-8E37-94686E35269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APPLY MODERN DATA MANAGEMENT PRINCIPLES AND TECHNOLOG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0492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oftware tools for analyzing and correcting data quality problems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attern match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uzzy log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pert system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ound data modeling and database desig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5822-2CD9-4287-9ED9-7EFE76F7A8E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QM PRINCIPLES AND PRACTIC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TQM – Total Quality Management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TQM Principles: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efect prevention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ontinuous improvemen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Use of enterprise data standard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trong foundation of measurement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70720" indent="-270720"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e3b30"/>
                </a:solidFill>
                <a:latin typeface="Franklin Gothic Book"/>
              </a:rPr>
              <a:t>Balanced focus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ustomer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586800" indent="-22572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roduct/Servic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AE95-2A07-44F0-9445-B0B7E7AC285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MASTER DATA MANAGEMENT (MDM)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Disciplines, technologies, and methods to ensure the currency, meaning, and quality of reference data within and across various subject areas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4e3b30"/>
                </a:solidFill>
                <a:latin typeface="Franklin Gothic Book"/>
              </a:rPr>
              <a:t>Three main architectures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dentity registry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– master data remains in source systems; registry provides applications with loc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Integration hub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– data changes broadcast through central service to subscribing databases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Persistent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– central “golden record” maintained; all applications have access. Requires applications to push data. Prone to data duplication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5D48-FCEC-446F-BF67-F4A7E50EC5B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543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INTEGRATION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49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ata integration creates a unified view of business dat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ther possibiliti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pplication integ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Business process integ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User interaction integratio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88000" indent="-2880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ny approach requires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hanged data captur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(CDC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23880" indent="-23976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ndicates which data have changed since previous data integration activit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Slide Number Placeholder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42B-ADF4-42FE-A240-5DE7315BF1B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ECHNIQUES FOR DATA INTEGRATION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onsolidation (ETL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Consolidating all data into a centralized database (like a data warehouse)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ata federation (EII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Provides a virtual view of data without actually creating one centralized database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ata propagation (EAI and ERD)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uplicate data across databases, with near real-time delay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A9D3-18E8-47DE-9996-49AD90D7A88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882E-5D18-4C91-BF5F-183B93B49BF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0" name="Picture 5" descr="Noname.gif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5983200"/>
          </a:xfrm>
          <a:prstGeom prst="rect">
            <a:avLst/>
          </a:prstGeom>
          <a:ln w="0">
            <a:noFill/>
          </a:ln>
        </p:spPr>
      </p:pic>
      <p:sp>
        <p:nvSpPr>
          <p:cNvPr id="461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8AB2-440D-4E3E-9CAA-8F598E26790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RECONCILED DATA LAYER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Typical operational data is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ransient–not historic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t normalized (perhaps due to denormalization for performance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stricted in scope–not comprehensiv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metimes poor quality–inconsistencies and error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A41D-13DE-4C80-B651-831608679BC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OBJECTIVE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fine term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importance and goals of data governanc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importance and measures of data qualit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fine characteristics of quality data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reasons for poor data quality in organization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a program for improving data quality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three types of data integration approach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the purpose and role of master data management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Describe four steps and activities of ETL for data integration for a data warehouse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e3b30"/>
                </a:solidFill>
                <a:latin typeface="Franklin Gothic Book"/>
              </a:rPr>
              <a:t>Explain various forms of data transformation for data warehouses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6817-34CF-4ABC-8D3F-51529AEE316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RECONCILED DATA LAYER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049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After ETL, data should be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tailed–not summarized ye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istorical–periodic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ormalized–3</a:t>
            </a:r>
            <a:r>
              <a:rPr b="0" lang="en-US" sz="3200" spc="-1" strike="noStrike" baseline="30000">
                <a:solidFill>
                  <a:srgbClr val="4e3b30"/>
                </a:solidFill>
                <a:latin typeface="Franklin Gothic Book"/>
              </a:rPr>
              <a:t>r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normal form or highe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prehensive–enterprise-wide perspectiv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imely–data should be current enough to assist decision-maki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53760" indent="-2512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Quality controlled–accurate with full integrit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E727-7D37-4AD0-98B6-84A4FF30B3C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THE ETL PROCES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09480" y="12193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Capture/Extrac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crub or data cleansing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Transfor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oad and Index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0D74-747A-4493-B8CA-8B9C92B5F991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1013760" y="407844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ETL = Extract, transform, and lo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088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uring initial load of Enterprise Data Warehouse (EDW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During subsequent periodic updates to EDW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8" descr="Noname.gif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041720"/>
          </a:xfrm>
          <a:prstGeom prst="rect">
            <a:avLst/>
          </a:prstGeom>
          <a:ln w="0">
            <a:noFill/>
          </a:ln>
        </p:spPr>
      </p:pic>
      <p:sp>
        <p:nvSpPr>
          <p:cNvPr id="47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4D80-8E0E-4E25-A380-6BC44CC055C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1828800" y="2209680"/>
            <a:ext cx="1295280" cy="38124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457200" y="49528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Static extract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= capturing a snapshot of the source data at a point i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4876920" y="4876920"/>
            <a:ext cx="396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Incremental extract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 = capturing changes that have occurred since the last static extr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905120" y="152280"/>
            <a:ext cx="61722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Capture/Extract…obtaining a snapshot of a chosen subset of the source data for loading into the data ware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0" y="8380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0-1 Steps in data reconcil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125B-17D9-464D-8BB1-FE84B7A5BE7F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8" descr="Noname.gif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041720"/>
          </a:xfrm>
          <a:prstGeom prst="rect">
            <a:avLst/>
          </a:prstGeom>
          <a:ln w="0">
            <a:noFill/>
          </a:ln>
        </p:spPr>
      </p:pic>
      <p:sp>
        <p:nvSpPr>
          <p:cNvPr id="48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1AE-DEC1-4E57-A0F1-82024EA053D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3124080" y="1447920"/>
            <a:ext cx="1219320" cy="30456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828800" y="228600"/>
            <a:ext cx="594360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Scrub/Cleanse…uses pattern recognition and AI techniques to upgrade data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52280" y="4800600"/>
            <a:ext cx="4419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Fixing errors: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900" spc="-1" strike="noStrike">
                <a:solidFill>
                  <a:srgbClr val="990000"/>
                </a:solidFill>
                <a:latin typeface="Tahoma"/>
                <a:ea typeface="Tahoma"/>
              </a:rPr>
              <a:t>misspellings, erroneous dates, incorrect field usage, mismatched addresses, missing data, duplicate data, inconsistenci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4724280" y="4800600"/>
            <a:ext cx="44197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Also: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1900" spc="-1" strike="noStrike">
                <a:solidFill>
                  <a:srgbClr val="990000"/>
                </a:solidFill>
                <a:latin typeface="Tahoma"/>
                <a:ea typeface="Tahoma"/>
              </a:rPr>
              <a:t>decoding, reformatting, time stamping, conversion, key generation, merging, error detection/logging, locating missing data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11"/>
          <p:cNvSpPr/>
          <p:nvPr/>
        </p:nvSpPr>
        <p:spPr>
          <a:xfrm>
            <a:off x="0" y="83808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0-1 Steps in data reconcil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E015-10F3-4483-A067-4521F263215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8" descr="Noname.gif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041720"/>
          </a:xfrm>
          <a:prstGeom prst="rect">
            <a:avLst/>
          </a:prstGeom>
          <a:ln w="0">
            <a:noFill/>
          </a:ln>
        </p:spPr>
      </p:pic>
      <p:sp>
        <p:nvSpPr>
          <p:cNvPr id="49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26D3-D4C7-495F-A7D8-886A0A060F4B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5029200" y="1447920"/>
            <a:ext cx="990720" cy="30456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636560" y="152280"/>
            <a:ext cx="575496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Transform … convert data from format of operational system to format of data ware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317520" y="4800600"/>
            <a:ext cx="419400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Record-level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Selection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data 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Joining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data comb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Aggregation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data summar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4419720" y="4876920"/>
            <a:ext cx="4724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Field-level:</a:t>
            </a:r>
            <a:r>
              <a:rPr b="0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single-field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from one field to on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multi-field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–from many fields to one, or one field to ma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0" y="83808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0-1 Steps in data reconcil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497-E603-439D-9AD5-AB1A5508C36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8" descr="Noname.gif"/>
          <p:cNvPicPr/>
          <p:nvPr/>
        </p:nvPicPr>
        <p:blipFill>
          <a:blip r:embed="rId2"/>
          <a:stretch/>
        </p:blipFill>
        <p:spPr>
          <a:xfrm>
            <a:off x="990720" y="838080"/>
            <a:ext cx="6933960" cy="4041720"/>
          </a:xfrm>
          <a:prstGeom prst="rect">
            <a:avLst/>
          </a:prstGeom>
          <a:ln w="0">
            <a:noFill/>
          </a:ln>
        </p:spPr>
      </p:pic>
      <p:sp>
        <p:nvSpPr>
          <p:cNvPr id="506" name="Slide Number Placeholder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17BC-5BD0-44B8-9723-2B8EA3B741AC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6324480" y="2057400"/>
            <a:ext cx="685800" cy="685800"/>
          </a:xfrm>
          <a:prstGeom prst="rect">
            <a:avLst/>
          </a:prstGeom>
          <a:noFill/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2590920" y="228600"/>
            <a:ext cx="41148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Tahoma"/>
                <a:ea typeface="Tahoma"/>
              </a:rPr>
              <a:t>Load/Index…place transformed data into the warehouse and create index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457200" y="5181480"/>
            <a:ext cx="40543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Refresh mode:</a:t>
            </a:r>
            <a:r>
              <a:rPr b="0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bulk rewriting of target data at periodic interv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4724280" y="5181480"/>
            <a:ext cx="4054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Update mode:</a:t>
            </a:r>
            <a:r>
              <a:rPr b="0" lang="en-US" sz="23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  <a:ea typeface="Tahoma"/>
              </a:rPr>
              <a:t>only changes in source data are written to data wareho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11"/>
          <p:cNvSpPr/>
          <p:nvPr/>
        </p:nvSpPr>
        <p:spPr>
          <a:xfrm>
            <a:off x="0" y="838080"/>
            <a:ext cx="1905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10-1 Steps in data reconcil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EA80-8964-45F8-B5A1-0DE572FCB72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04920" y="1874520"/>
            <a:ext cx="86868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Selection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the process of partitioning data according to predefined criter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Joining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the process of combining data from various sources into a single table or view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Normalization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the process of decomposing relations with anomalies to produce smaller, well-structured rela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74320" indent="-27432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Aggregation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– the process of transforming data from detailed to summary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6" name="Slide Number Placeholder 1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171D-D119-4C76-ADA9-E29AB602CE5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CORD LEVEL TRANSFORMATION FUNCTIONS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B900-B434-4F24-8B48-7FD41E8C661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826280" y="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 Single-field trans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85800" y="4952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In general, some transformation function translates data from old form to new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Picture 7" descr="Noname.gif"/>
          <p:cNvPicPr/>
          <p:nvPr/>
        </p:nvPicPr>
        <p:blipFill>
          <a:blip r:embed="rId2"/>
          <a:stretch/>
        </p:blipFill>
        <p:spPr>
          <a:xfrm>
            <a:off x="914400" y="1600200"/>
            <a:ext cx="7068960" cy="2895480"/>
          </a:xfrm>
          <a:prstGeom prst="rect">
            <a:avLst/>
          </a:prstGeom>
          <a:ln w="0">
            <a:noFill/>
          </a:ln>
        </p:spPr>
      </p:pic>
      <p:sp>
        <p:nvSpPr>
          <p:cNvPr id="522" name="TextBox 8"/>
          <p:cNvSpPr/>
          <p:nvPr/>
        </p:nvSpPr>
        <p:spPr>
          <a:xfrm>
            <a:off x="2831040" y="60948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Basic Repres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5B43-50F7-4099-B10E-586B9F658409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329480" y="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 Single-field transformation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143000" y="51814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Algorithmic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  transformation uses a formula or logical ex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Box 7"/>
          <p:cNvSpPr/>
          <p:nvPr/>
        </p:nvSpPr>
        <p:spPr>
          <a:xfrm>
            <a:off x="2849760" y="60948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Algorith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7" name="Picture 8" descr="Noname.gif"/>
          <p:cNvPicPr/>
          <p:nvPr/>
        </p:nvPicPr>
        <p:blipFill>
          <a:blip r:embed="rId2"/>
          <a:stretch/>
        </p:blipFill>
        <p:spPr>
          <a:xfrm>
            <a:off x="762120" y="1523880"/>
            <a:ext cx="7515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A21F-89AD-4209-AC45-FCFA856A3697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351080" y="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2 Single-field transformation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838080" y="49528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Table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 </a:t>
            </a:r>
            <a:r>
              <a:rPr b="1" i="1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lookup</a:t>
            </a:r>
            <a:r>
              <a:rPr b="0" lang="en-US" sz="2400" spc="-1" strike="noStrike">
                <a:solidFill>
                  <a:srgbClr val="990000"/>
                </a:solidFill>
                <a:latin typeface="Tahoma"/>
                <a:ea typeface="Tahoma"/>
              </a:rPr>
              <a:t> uses a separate table keyed by source recor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2854800" y="6094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) Table look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Picture 8" descr="Noname.gif"/>
          <p:cNvPicPr/>
          <p:nvPr/>
        </p:nvPicPr>
        <p:blipFill>
          <a:blip r:embed="rId2"/>
          <a:stretch/>
        </p:blipFill>
        <p:spPr>
          <a:xfrm>
            <a:off x="685800" y="1371600"/>
            <a:ext cx="739152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DATA GOVERNANC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4479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governanc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igh-level organizational groups and processes overseeing data stewardship across the organizatio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steward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68520" indent="-2570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person responsible for ensuring that organizational applications properly support the organization’s data quality goal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B659-F7B2-4D00-856C-6C41446C8AB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3882-C225-4E0E-AD1F-C5BD70F1E0E6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2165760" y="152280"/>
            <a:ext cx="51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3 Multi-field trans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5" name="Picture 6" descr="Noname.gif"/>
          <p:cNvPicPr/>
          <p:nvPr/>
        </p:nvPicPr>
        <p:blipFill>
          <a:blip r:embed="rId2"/>
          <a:stretch/>
        </p:blipFill>
        <p:spPr>
          <a:xfrm>
            <a:off x="762120" y="1371600"/>
            <a:ext cx="7559640" cy="4038480"/>
          </a:xfrm>
          <a:prstGeom prst="rect">
            <a:avLst/>
          </a:prstGeom>
          <a:ln w="0">
            <a:noFill/>
          </a:ln>
        </p:spPr>
      </p:pic>
      <p:sp>
        <p:nvSpPr>
          <p:cNvPr id="536" name="TextBox 7"/>
          <p:cNvSpPr/>
          <p:nvPr/>
        </p:nvSpPr>
        <p:spPr>
          <a:xfrm>
            <a:off x="2819160" y="60948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) Many sources to one targ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B69F-B4DA-4E48-8228-77D0BB09B0B3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1690560" y="15228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0-3 Multi-field transformation (con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9" name="Picture 6" descr="Noname.gif"/>
          <p:cNvPicPr/>
          <p:nvPr/>
        </p:nvPicPr>
        <p:blipFill>
          <a:blip r:embed="rId2"/>
          <a:stretch/>
        </p:blipFill>
        <p:spPr>
          <a:xfrm>
            <a:off x="561960" y="1295280"/>
            <a:ext cx="7972560" cy="42674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7"/>
          <p:cNvSpPr/>
          <p:nvPr/>
        </p:nvSpPr>
        <p:spPr>
          <a:xfrm>
            <a:off x="2818800" y="609480"/>
            <a:ext cx="38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) One source to many targ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6FB5-C56E-41EF-82B9-EF3BCDE4C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Picture 4" descr="cid:3287383400_2177562"/>
          <p:cNvPicPr/>
          <p:nvPr/>
        </p:nvPicPr>
        <p:blipFill>
          <a:blip r:embed="rId2"/>
          <a:stretch/>
        </p:blipFill>
        <p:spPr>
          <a:xfrm>
            <a:off x="343080" y="971640"/>
            <a:ext cx="8422920" cy="2747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3" name="Rectangle 5"/>
          <p:cNvSpPr/>
          <p:nvPr/>
        </p:nvSpPr>
        <p:spPr>
          <a:xfrm>
            <a:off x="738360" y="5327640"/>
            <a:ext cx="78451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right 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REQUIREMENTS FOR DATA GOVERNANC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8288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Sponsorship from both senior management and business unit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data steward manager to support, train, and coordinate data steward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Data stewards for different business units, subjects, and/or source system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 governance committee to provide data management guidelines and standards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84D2-207E-44A8-AF08-F23543B07098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IMPORTANCE OF DATA QUAL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If the data are bad, the business fails. Period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IGO – garbage in, garbage ou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arbanes-Oxley (SOX) compliance by law sets data and metadata quality standard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Purposes of data quality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nimize IT project risk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ke timely business decision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sure regulatory complian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83280" indent="-26280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xpand customer bas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CA69-3D45-4073-9246-1640D4E665E0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Uniquenes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Accurac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Consistenc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Completenes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47960" y="159984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Timeliness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Currenc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Conformance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Franklin Gothic Book"/>
              </a:rPr>
              <a:t>Referential integrity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BCA4-70BB-4BF0-B532-882EFC15CD3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HARACTERISTICS OF QUALITY DATA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3E9-4CE6-48C8-B342-8FB4ED1C3EAC}" type="slidenum">
              <a:rPr b="0" lang="en-US" sz="11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446040" y="6262560"/>
            <a:ext cx="13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pter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5"/>
          <p:cNvSpPr/>
          <p:nvPr/>
        </p:nvSpPr>
        <p:spPr>
          <a:xfrm>
            <a:off x="1447920" y="6172200"/>
            <a:ext cx="6386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© 2013 Pearson Education, Inc.  Publishing as Prentice Ha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CAUSES OF POOR DATA QUALITY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880" y="114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xternal data sourc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Lack of control over data qualit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Redundant data storage and inconsistent metadata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roliferation of databases with uncontrolled redundancy and metadata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Data entr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oor data capture control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94840" indent="-29484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Lack of organizational commitmen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39000" indent="-24552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Not recognizing poor data quality as an organizational issu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836C-CF3D-48FA-A445-72525AEA21B4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STEPS IN DATA QUALITY IMPROVEMEN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Get business buy-in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erform data quality audi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stablish data stewardship progra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mprove data capture process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pply modern data management principles and  technology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pply total quality management (TQM) practice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2E69-C22F-4263-936F-B0578B052715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BUSINESS BUY-IN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Executive sponsorship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Building a business case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Prove a return on investment (ROI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voidance of cost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Avoidance of opportunity los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F557-37EF-4D8F-89B0-115D6495417E}" type="slidenum">
              <a:rPr b="0" lang="en-US" sz="1200" spc="-1" strike="noStrike">
                <a:solidFill>
                  <a:srgbClr val="d38e27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9T10:00:26Z</dcterms:created>
  <dc:creator>Michel Mitri</dc:creator>
  <dc:description/>
  <cp:keywords/>
  <dc:language>en-US</dc:language>
  <cp:lastModifiedBy>ULOFTKE</cp:lastModifiedBy>
  <cp:lastPrinted>1998-01-19T09:29:56Z</cp:lastPrinted>
  <dcterms:modified xsi:type="dcterms:W3CDTF">2012-07-31T15:34:41Z</dcterms:modified>
  <cp:revision>576</cp:revision>
  <dc:subject/>
  <dc:title> Data and Database Administration</dc:title>
</cp:coreProperties>
</file>